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233A-4986-4B10-8CD9-3CA8CC6C11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FB44-534F-48FA-AEA7-E627B5C27A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30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774F-C727-4BD8-877A-BEA067AED5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B456-DF71-44E0-9A99-D9B2FA5F3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296-63BE-4292-B0DE-9F2D938F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EE4-47BB-43E9-8089-D47B3466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D8A-919B-42DC-9B53-5F7CCEF6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523-2B1F-4F83-BF5B-99B59B9D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7B92-AFF6-46DF-BCCC-56DD2DFB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940F-1DF6-49B6-8D9B-8B18C27F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35F1-6045-42C5-A6F5-DADE2F60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803B-2B0C-4E66-B86A-183345E1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1816-80D2-4FB4-82EA-C3B8F019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F61D-8ED9-47A2-884C-14645BD4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8775-9225-4251-9302-62BB9646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23C-0660-416E-B12C-40156A68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228F-537F-49E9-9E3C-E56B2092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5F36-3679-4C87-B560-A40C1018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E007-7A5F-41BD-9AC6-DA4BFD33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1597-CB84-4057-9327-636E2105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18EF-C5E5-4E72-ADD8-75A6CFB0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05A3-4C47-4E97-AB2C-E8B58516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BFF99-3BB3-4D49-BC22-5E9E3C05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6710-9FED-49D9-9FD7-5346A72C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A8B0-18BB-4053-B9F0-7A77F93A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54787-90B8-45A2-A383-DCEDD26D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6A3-6FD2-408A-B451-125D74AF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19603-F475-4A39-B37E-C9521F91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BA47-9A6F-48C3-9522-A9E2326B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82D4A-5A7D-47C1-9237-D7EC283E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A20D-BA37-453D-AE9A-6E7B10BD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1F062-6F4D-4248-8B38-86CE3A9E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257F8-1D2B-4E4F-84CB-860CB357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60F2-4493-4032-9540-98FDD553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D6600-9344-4ABA-B317-44B81800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E5A2E-E715-4232-83EA-1B0AFB43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5AB83-57F6-47CF-8469-60C2B17C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3A2-F251-4C0B-8B92-4E267509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F3E0-0C32-41B4-877F-3E1DE01D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54C02-5CD9-4EB4-A938-F29BED4B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D58C5-6B5B-4AA1-B540-1016E0D9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D77DC-1C92-40D0-B836-AA5AE4E8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E1E5D-6E98-46FB-975B-3A87451B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4B32-E129-4C9C-A063-82934823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C2ED6-DD4E-4161-8577-D62BA690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1936A-544C-4DE8-89E9-D293F5BB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D9B2B-D330-4935-A147-6D437F94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B6A53-2B86-451E-AE57-E6753438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6F6-5A63-4AF1-8502-B557B08A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81DF7-35C7-4538-BAB2-1F12B50A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1257B-F113-4855-9436-E14C0561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4FBED-7166-4964-BE42-6DF118F3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8AB6B-6343-44E2-8618-820D1AE6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EC19C-868A-4E1C-A4A2-D2E0A109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19D1C-83DB-4C9E-9AC4-BF8A4D43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9EFB1-8094-40C8-9CB0-232D470F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DB751-71A3-44E7-8E6C-69CB6532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9F987-81F8-4280-9265-943ACB97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C4648-77B2-4B61-B130-73079C58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108-804F-43B7-B06A-A737A9F1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D4745-8666-433A-806C-2A951348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1EB02-878D-4CC9-8EE4-3531B3E2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C0B3F-DBF0-477C-A941-2E57E8F0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569B2-6BAA-4BEE-B715-24D65598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EBADF-A519-4A7E-BB4E-84670523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CF004-343F-4143-9D96-25EE1E7A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894A3-3889-46FD-B577-8A4C727A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C6D73-48E4-41D9-B372-0DCA3031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B454B-5CB1-4CE1-8A36-6CBAA794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28DFA-8BF6-46C2-ADFE-F565DDDD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6A8-13AD-4CBF-B96B-F2B60DA9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D1F46-18E2-4B6F-8C92-DA59A8AF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D23C9-E524-43CF-A5BD-23C95AB8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FC1D8-EF47-4DF2-A0FC-45DC896F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FA0-3069-41A9-A805-56E5F1A2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0E5A-8593-4975-ADA2-1BA4A04D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4CAE-7D70-445F-86F5-9018929F7294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4513-5619-4AE3-84D2-9BA15B78EC2B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7B82-F078-4A77-B9FD-5563B3BA546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AB39-3B0F-4535-9D66-9CEF4BC0D10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464C-B873-42DA-BF57-BEA339D91C5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6897-E28A-4BD6-A7E3-F53F8B27057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SFC2014 EAFRD Annual Implementation report (AIR) Technical Guidance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Didier Bonaert (DG AGRI Unit H.2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Christophe Derzelle (DG AGRI Unit H.3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7 February 2016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EC6B-98FD-48F8-B9C9-49C1BECE9428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6000" y="1123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IR -  Draft Document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Q&amp;As on SFC2014 AIR technical guid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pdate of the SFC2014 AIR technical guidance (following Q&amp;As)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Draft technical structure of the Annual Implementation Report (AIR) for information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encoding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It does not correspond to final AIR Report Snapshot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FC2014 AIR technical guidance for NRN Programm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Monitoring indicator tables (Encoding tables): Excel tables presented in September 2015 RDC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1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rticle 66 1(b) of Regulation 1305/2013 (committed expenditure/Table A): submission by 31 January 2016: remaining missing submissions for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20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RDP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first Submission of BAIDP (January 2016), it should cover expenditure committed from beginning 2014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first Submission of BAIDP (January 2016), it should cover expenditure committed from 1</a:t>
            </a:r>
            <a:r>
              <a:rPr b="0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September 2015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4193-521A-4E61-86E0-CC432328B734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8CE1-0A59-45B7-BEAC-14F294EA9DFB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rcRect l="-1803" t="-3304" r="58333" b="59799"/>
          <a:stretch/>
        </p:blipFill>
        <p:spPr>
          <a:xfrm>
            <a:off x="-150840" y="1197000"/>
            <a:ext cx="8874000" cy="4846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2195640" y="5300640"/>
            <a:ext cx="28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2185920" y="5076720"/>
            <a:ext cx="296244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809640"/>
          <a:ext cx="9144000" cy="57261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AIR: Financial Part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3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50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5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75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From 2016 […] </a:t>
                      </a:r>
                      <a:r>
                        <a:rPr b="0" lang="fr-BE" sz="1400" spc="-1" strike="noStrike" u="sng">
                          <a:solidFill>
                            <a:srgbClr val="0f5494"/>
                          </a:solidFill>
                          <a:uFillTx/>
                          <a:latin typeface="Verdana"/>
                        </a:rPr>
                        <a:t>Member States</a:t>
                      </a: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shall submit to the Commission an Annual Report on implementation of the programme …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By 30 June 2016 and each subsequent year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report submitted in 2016 shall cover the calendar years 2014 and 2015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2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- AIR shall set out key information of the programme and its priorities by reference to the financial data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– […] AIR shall include information inter alia on financial commitments and expenditure by measure[…]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6 – In order to be deemed admissible, the AIR reports […] shall contain all the information required [in paragraph 1 to 5 of Art 50] and in fund specific rules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6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36(3)(c)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ach interim payment shall be made by the Commission subject to compliance with the following requirements :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[…]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ransmission to the Commission of the last annual progress report on the implementation of the RDP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FCAA-A683-412E-83D1-60D67344DF5D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566640" y="1844640"/>
          <a:ext cx="8325000" cy="3157560"/>
        </p:xfrm>
        <a:graphic>
          <a:graphicData uri="http://schemas.openxmlformats.org/drawingml/2006/table">
            <a:tbl>
              <a:tblPr/>
              <a:tblGrid>
                <a:gridCol w="8325000"/>
              </a:tblGrid>
              <a:tr h="615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808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4 art 15 – Annex VII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4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inancial implementation data giving, during the previous calendar year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or each measure and focus area,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 statement of the expenditure incurred and declared in the declarations of expenditure.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t shall cover :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total incurred public expenditure as well a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financial recoveries and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corrections brought by the Member State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BC28-0C2C-43EE-9A94-87F6CCE236A2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07800" y="1844640"/>
          <a:ext cx="8583840" cy="3389400"/>
        </p:xfrm>
        <a:graphic>
          <a:graphicData uri="http://schemas.openxmlformats.org/drawingml/2006/table">
            <a:tbl>
              <a:tblPr/>
              <a:tblGrid>
                <a:gridCol w="8583840"/>
              </a:tblGrid>
              <a:tr h="523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ew, Improved, Simplified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659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ll data are in the system and reports can be easily generated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additional or new requirements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port takes into account the corrections to expenditure declared in quarterly declarations made in annual accounts (Diff-X table)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IR  is a report from MS to the Commission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MS are responsible of the correctness of the data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420920" y="3068640"/>
          <a:ext cx="6148440" cy="1512720"/>
        </p:xfrm>
        <a:graphic>
          <a:graphicData uri="http://schemas.openxmlformats.org/drawingml/2006/table">
            <a:tbl>
              <a:tblPr/>
              <a:tblGrid>
                <a:gridCol w="1046160"/>
                <a:gridCol w="1625400"/>
                <a:gridCol w="1776600"/>
                <a:gridCol w="1700280"/>
              </a:tblGrid>
              <a:tr h="8413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cus Area /                Priority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incurred and declared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djustments made by the Member States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fference between the annual declaration and the cumulative quarterly declaration (Diff X table)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976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b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c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2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2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43D0-4692-4C40-963C-43DAFE4D0908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1 - Information on implementation of the programme and its priorities by reference to the financial data [ For each measure]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8000" y="2924280"/>
          <a:ext cx="8578800" cy="248436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) = (b) + (c) +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4AF0-9F39-45D3-88F7-6893BA6275B6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2 - Financial implementation – Calendar year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08000" y="2924280"/>
          <a:ext cx="8578800" cy="244944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') = (b') + (c') +(d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9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6D9E-1457-4A4E-9633-9B9AB0440CE3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3 Financial implementation - aggregated table from the beginning of the programming period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6360" y="2852640"/>
          <a:ext cx="7596000" cy="1656000"/>
        </p:xfrm>
        <a:graphic>
          <a:graphicData uri="http://schemas.openxmlformats.org/drawingml/2006/table">
            <a:tbl>
              <a:tblPr/>
              <a:tblGrid>
                <a:gridCol w="1114200"/>
                <a:gridCol w="1575000"/>
                <a:gridCol w="1549440"/>
                <a:gridCol w="1736640"/>
                <a:gridCol w="1620720"/>
              </a:tblGrid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Financing plan in force  on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EAFRD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') = (e') + (f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Requested / Financing plan. (%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') = (b'') / 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vailable to declare for the remaining period as at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') = (a") - (b"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352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2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18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…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4F60-5A27-4C77-B875-66E47DEE014C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4 State of play at the end of the calendar ye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AIR – SFC2014 developmen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826920" y="2421000"/>
          <a:ext cx="7490160" cy="2533680"/>
        </p:xfrm>
        <a:graphic>
          <a:graphicData uri="http://schemas.openxmlformats.org/drawingml/2006/table">
            <a:tbl>
              <a:tblPr/>
              <a:tblGrid>
                <a:gridCol w="1648080"/>
                <a:gridCol w="1871640"/>
                <a:gridCol w="1881000"/>
                <a:gridCol w="208944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 Encoding modul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pdf report Snapsho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87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/03/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(partial) 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1" lang="en-US" sz="4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29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 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ION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6-02-15T14:37:02Z</cp:lastPrinted>
  <dcterms:modified xsi:type="dcterms:W3CDTF">2016-02-16T15:37:28Z</dcterms:modified>
  <cp:revision>460</cp:revision>
  <dc:subject/>
  <dc:title>Slide 1</dc:title>
</cp:coreProperties>
</file>